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332-EAC7-4C7F-87B7-85323781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D47-52E8-442C-9F75-D6A72A75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FFF-3F64-4931-82F3-BBD6EBEC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C2B-0555-44E8-9709-6BAAF166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174D9-3D2E-4377-95CE-6B0538C0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E7FEE-194D-4EA1-8EC1-DFCC23A8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E6CC7-65F4-4277-817F-29C3158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83035-141E-4A65-8895-3AD52F4A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9C00-07C2-4803-88B8-EA454ED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1D985-6F78-42DC-A534-EE3CDF4E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FE94A-F78C-486A-A7F8-1AC2E5F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EBA-F08D-48FC-81DF-4880E349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26E03-9C1C-487A-B6D0-7B456AD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57E38-329B-4913-B268-08C8C6F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BEB84-9ED3-4AD6-B8DF-A72CD502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00434-643A-4FA2-978A-E07C7BBA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CA811-FA52-4D45-900F-0E280BA7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3E5-E21B-4110-AC5A-13063E8C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484-A910-4743-92B5-97EA5FBA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7F4-5FF0-41A4-B09B-73AFEB4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997-BD7C-4AD1-8FCB-0B1797F0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E55-6F94-4CD3-B3FD-5AD3D2F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9F8-F0AA-4B76-A79F-BF9548D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BA1-DDA9-4C4A-86FE-41B34A9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288-7FDA-496B-A9DA-785C0232F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E3E-CE5F-4FFB-9386-754A242CC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476360" y="4508640"/>
            <a:ext cx="568800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MABO CASE"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January 1992 koiki Mabo died from cancer he was 56 years old and was remembered as a Australian land rights h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971640" y="5300640"/>
            <a:ext cx="676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bo was named Eddie koiko sambo but he changed to Mabo when he adopted by his mother’s brother, Benny Mab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982 Koiki (Eddie) Mabo challenged the legal position of Terra Nullius for the aboriginal lands, Murray islands and Torres strait isl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cision said that under Australian law, indigenous people have right to land-rights that Existed before Colonisation and which still Exist. This right is called native ti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Recognising the Existence of the native title the high court also confirmed the government that they had power to acquire native title providing they kept within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ction which brought about the Terra Nullius decision had been led by Eddie Mabo, David Passi, James Rice, all from the Merriam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ommenced proceedings in the High court in 1982 in response to the Queens  Amendment 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However the Mabo decision was left unresolved because of lack of the land given back to the native ow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982 they established a system of making land grants on trust for aboriginals Torres Strait islanders which Murray islanders did not acce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13:19Z</dcterms:created>
  <dc:creator>Reservoir District Secondary College</dc:creator>
  <dc:description/>
  <dc:language>en-US</dc:language>
  <cp:lastModifiedBy>Reservoir District Secondary College</cp:lastModifiedBy>
  <dcterms:modified xsi:type="dcterms:W3CDTF">2008-06-05T02:12:05Z</dcterms:modified>
  <cp:revision>3</cp:revision>
  <dc:subject/>
  <dc:title>Slide 1</dc:title>
</cp:coreProperties>
</file>